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ppt_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天遥一家亲PPT背板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天遥G10会议通PPT背板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162864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197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開啟講義、備忘錄及範例說明</a:t>
            </a:r>
            <a:r>
              <a:rPr b="0" lang="zh-TW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227664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開啟講義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一鍵即開啟授課、會議時所需講義、檔案，事先設定好快捷鍵，做到隨用隨看。此設計可避免教學會議中途停頓費時去找檔案，而降低教學、會議品質， 教學、會議前可以將所需要的檔、檔案預設於一類模式中的各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,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教學會議時只須要切換至其模式後，一按相關鍵瞬間即可把檔案調出來，維持教學會議時的流暢感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1052640"/>
            <a:ext cx="6551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開啟講義範例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選擇模式三“開啟講義”，預設③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—“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開啟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PPT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講義範例”，④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—“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開啟文檔講義範例”，⑤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—“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開啟表格講義範例”，一鍵即能開啟教學、會議時所需的講義、檔案。用戶也可以根據實際使用情況和習慣，可將滑鼠按鍵②③④⑤⑥及滾輪上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UP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）、滾輪下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DN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）選用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【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開啟講義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】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功能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3182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備忘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  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顯示各鍵的設定功能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-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提醒老師講義在那一鍵可以調出來。點擊選用 “備忘錄”的鍵，即可開啟備忘錄介面，顯示各鍵的設定功能或開啟各講義檔案的所設按鍵。因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G10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軟體有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5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種使用模式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,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每一模式又有七個可設定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,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利用此功能相信可以幫助記憶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,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如欲關閉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【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備忘錄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】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,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可以再按一次原開啟此功能的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,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於緊張的教學會議時善用此類似方便的小抄文檔將有效提醒而不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備忘錄範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  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選擇模式三“開啟講義”，單擊⑥鍵，即可彈出備忘錄介面，顯示各鍵的設定功能或開啟各講義檔案的所設按鍵。用戶也可以根據實際使用情況和習慣，可將滑鼠按鍵②③④⑤⑥及滾輪上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UP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）、滾輪下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DN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）選用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【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備忘錄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】</a:t>
            </a:r>
            <a:r>
              <a:rPr b="1" lang="zh-TW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功能。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182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6:01:28Z</dcterms:created>
  <dc:creator>karl</dc:creator>
  <dc:description/>
  <dc:language>en-US</dc:language>
  <cp:lastModifiedBy>User</cp:lastModifiedBy>
  <dcterms:modified xsi:type="dcterms:W3CDTF">2010-05-24T14:44:32Z</dcterms:modified>
  <cp:revision>284</cp:revision>
  <dc:subject/>
  <dc:title>幻灯片 1</dc:title>
</cp:coreProperties>
</file>